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A20-9DC6-4EF0-9A10-ED1E5C99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0C0-B6BA-4582-96D1-71A5E3EF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E94-043E-474C-A9A7-86F856E9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15F-1E20-4393-BE89-83F35267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DDCF-A7C8-43A0-B36B-B292AEE0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C269-9057-4D49-A95D-D91E730A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752B-C016-48DF-9AAC-70E593BC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62EE-1BA1-4036-8C34-3A8A6428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2DCA-DCFD-49A2-BF1C-EDF16E32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0103-E087-49BF-B12D-2142E8FF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EB9B-DA7A-48C9-93ED-90EA7D1A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9D7-666C-49EA-93E9-3C450CEE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C549-021A-44A5-A629-9A688004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6CCF-9514-4A04-9469-25BF29E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31C7-E688-4C54-8CB5-E716B179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29A3-24CC-4BAA-9F6F-55E00AF4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DF72-84B9-4102-9F3B-BBD2774E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1A1-55C8-424C-8994-898A3452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C8B-1500-43A7-A71C-655E6C46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E05-8C9B-4308-AD1F-3E7C4C58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DF3-2ED8-4D89-8FA0-274F9E91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8F2-7559-4C6A-A186-3D4C0F4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170-435D-4913-A324-4D9DE3E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390-F57D-45AD-815D-6F9B725B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6B83-1699-46FB-8AA8-554E3271F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E98-B5E4-430E-93AE-60A7E4DFD2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fornian FB"/>
              </a:rPr>
              <a:t>Real Time Strategic Change Process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volution doesn’t happen when society adopts new technologies—it happens when society adopts new strategie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lay Shirky, “Here comes Everybody,”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Change to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satisf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the status quo (current situation) coupl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a better future coupl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r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and commitments to take action must be great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istanc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 Days=D X V x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Day-Dis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are we now and how do we feel about being there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Day-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 we (a critical mass of the organization) want to be instead (our shared vision)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Day-Firs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our plan (first concrete steps, responsibilities, timeframes,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t day-focus on commun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0:04:39Z</dcterms:created>
  <dc:creator>chongj</dc:creator>
  <dc:description/>
  <dc:language>en-US</dc:language>
  <cp:lastModifiedBy>KMeador</cp:lastModifiedBy>
  <dcterms:modified xsi:type="dcterms:W3CDTF">2008-12-10T19:56:05Z</dcterms:modified>
  <cp:revision>7</cp:revision>
  <dc:subject/>
  <dc:title>Slide 1</dc:title>
</cp:coreProperties>
</file>