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652-E163-4AFB-97E2-714B6406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415-D5AE-4972-884B-2013E24C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A1B-877B-4B73-82EF-29E8BDC7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3B0-3509-4492-9C39-D56D91A2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F544-3419-4DDD-B1B5-B8FA1A4D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5C29-1DC8-490B-950D-9BAF1316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7E8B-B5C8-4B94-BD83-3A9A1407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B98C-C00F-4C07-B75F-7FCFDA5F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550E-6DFD-40D5-9F36-193D34B0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45F2-6B1E-4E46-B822-F0845291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56A7-765C-41BB-A21B-3A208536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1B4-4ADE-49EC-914A-3D57AF1A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D00E-F079-4FC6-A3B5-24196E8F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CEC3-F4C9-4581-8732-0FD8252B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4AC7-F62A-403D-B21E-C8DE37B6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C833-AE81-45DB-A2DC-A06277C3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CBD1-8F50-48E2-82F6-B63097C8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610-768D-46AE-BA1A-ED4BF8B1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7B0-CB15-48ED-8D05-E8D3EEE5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C48-0142-4FD7-8E9C-426DF5E0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9A8-B1E5-4CDB-90CC-D097A177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8C0-AF36-4DD6-BFA6-12620B8A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942-59FC-478F-BEC8-FB8FB19C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D94-F2ED-43A7-A698-597ACD82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B5B7-75AF-4B71-B341-586635E51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9FFA-DAB0-431C-8F35-5CFC02C008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fornian FB"/>
              </a:rPr>
              <a:t>Real Time Strategic Change Process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volution doesn’t happen when society adopts new technologies—it happens when society adopts new strategie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lay Shirky, “Here comes Everybody,”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Change to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satisfa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the status quo (current situation) coupl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a better future coupl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r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and commitments to take action must be greater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istanc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 Days=D X V x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Day-Dis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are we now and how do we feel about being there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Day-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 we (a critical mass of the organization) want to be instead (our shared vision)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Day-Firs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our plan (first concrete steps, responsibilities, timeframes,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st day-focus on commun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0:04:39Z</dcterms:created>
  <dc:creator>chongj</dc:creator>
  <dc:description/>
  <dc:language>en-US</dc:language>
  <cp:lastModifiedBy>KMeador</cp:lastModifiedBy>
  <dcterms:modified xsi:type="dcterms:W3CDTF">2008-12-10T19:56:05Z</dcterms:modified>
  <cp:revision>7</cp:revision>
  <dc:subject/>
  <dc:title>Slide 1</dc:title>
</cp:coreProperties>
</file>