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AFE-3E69-49E4-86ED-C6F5CAFC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FE9-988E-4E44-B9DB-94329E09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B5D-6A0B-459D-B94C-17BDD832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651-913C-4020-8A3A-A6CA5A1F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1387-0E15-4176-9484-688D674F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E7B-C7B4-4A44-85E2-C9333B5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1808-5841-4DA5-B86B-6D2E0DA9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A2D-5F9C-47CE-BC82-C2D986C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62F0-436E-47DD-8CB0-B4347583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7A3A-BA68-4608-87E5-991E2BF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325F-D700-4393-9011-263DA5F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818-3FA9-4081-9E96-E364A565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30D2-B42D-498A-836E-C072E7B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F2DA-19E1-4873-87C8-74222AB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7B4-91A9-4087-8AD5-F5DA27F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6F30-07B2-4BBA-BE72-FF9A4153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3A5F-B213-4BCB-9A29-E6466E0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CE-0885-4608-8119-F3CD9BE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5CB-9A01-4C7D-9FFA-0F7A5A9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74C-7AE8-492C-BF4A-7BFA37D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160-48A6-4390-A731-014E8505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9A1-8ED6-4105-B74F-5AA2AD9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01B-48A0-4555-8BFF-34B8A8B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649-AA39-4D90-99B1-7A77600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3D0-74D9-4281-97C1-4971045A03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EC3-8842-412A-B5BE-58213156CD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urning the “Red” states --“Blue”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strategy for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look at the Indiana Case Study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IS CHANG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ed Barack Obama president – with a 10,000,000 vote margin is the largest ever for a non-incumb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d the rules of the campaig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stered and mobilized people who haven’t ever been involved in the process both young and ol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67960" y="868320"/>
            <a:ext cx="7712280" cy="14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ote from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President-Elect Barack Obama</a:t>
            </a:r>
            <a:br>
              <a:rPr sz="3400"/>
            </a:b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nge will not come if we wait for some other person or some other time. We are the ones we've been waiting for.  We are the change that we seek.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rack Obama won 9 states that George W. Bush won in 2004 including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95120" y="2361960"/>
            <a:ext cx="5635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Mex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th Caro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h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orid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 WHY did the Obama campaign change the way things where run? And what did these changes look like?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e – Only change would win the campaign for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nges appeared in all aspects of the campaign: Overall strategy, Message and Communications, Field and Fundraising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GANIZE, ORGANIZE, ORGANIZE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rly decision to expand electoral playing fie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new campaign model that empowered volunte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ed heavily in new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ge investments in field, organizers, offices and alternative adverti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ivated largest small-donor base in political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integration of all campaign compone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 component campaign with an organizers focus and prospectiv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Obama Turn These States Blue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would not have won the election without focusing so heavily on voter registration. The nine states we flipped from Red to Blue are a perfect example of this.  In each of these states, the number of voters we registered accounted for our margin of victory.  Without a massive voter registration drive Obama would have received fewer than 240 Electoral College Vote and John McCain is President today.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-- Steve Hildebrand, Deputy Campaig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Manager on key to landslide victory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se study: Indian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47960" y="297180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MCj01895940000[1]"/>
          <p:cNvPicPr/>
          <p:nvPr/>
        </p:nvPicPr>
        <p:blipFill>
          <a:blip r:embed="rId1"/>
          <a:stretch/>
        </p:blipFill>
        <p:spPr>
          <a:xfrm>
            <a:off x="1219320" y="380880"/>
            <a:ext cx="67816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ID BARACK FLIP INDIANA?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utperformed John Kerry by more than 450,000 votes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osing to compete in a state Dems haven’t won in 40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istered over 150,000 new vo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ed field offices in every major city and many small cities to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200 field staff to the 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resources to early voting minority and youth vo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mitted early money for media buys in Indiana and outspent McCain 2 to 1 on ai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ed upscale, suburban Republicans for persua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ximized minority turnou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IU’S EFFORT IN INDIAN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gistered nearly 18,000 new vo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ght a legal battle with Republican Party to protect early voting in Northwest, India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 a massive early vote operation that gave Obama a 22,000 vote edge over McC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ve 1,067 individual voters to early vo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out out over 90% of the registered voters in Gary, East Chicago and targeted precincts in Hammo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precedented commitment from our Loca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0:57:54Z</dcterms:created>
  <dc:creator>HAP</dc:creator>
  <dc:description/>
  <dc:language>en-US</dc:language>
  <cp:lastModifiedBy>KMeador</cp:lastModifiedBy>
  <dcterms:modified xsi:type="dcterms:W3CDTF">2009-02-03T17:55:53Z</dcterms:modified>
  <cp:revision>6</cp:revision>
  <dc:subject/>
  <dc:title>Turning the “Red” states --“Blue”   </dc:title>
</cp:coreProperties>
</file>