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D4A3-1224-4A5B-B84F-D5CA0E42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9406-6159-4981-901E-8DC5BB9F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E7C6-4819-4D63-B96D-54EE2388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3B7B-8944-4DA3-B3FD-D4D43F24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AEAB-C4E6-4555-9BBC-020FD276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79B2-DF2F-4E5F-B57F-7EAFC259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1C7D-E493-493A-B151-479CD949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C2AE-9662-4CB6-A11F-3922EBA5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AFFB-56EB-4C97-A4CC-A8CB125A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151F-4D08-4527-AF7F-0D4B9826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8A03-A3E8-4E9C-AEB8-0FCD7592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BDA-3F2E-4999-9392-180B47C3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F3C6-9ECA-4DDC-B4F7-D85BA6C7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19FE-06C2-4942-AA70-3D1B56C7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D944-74F1-40A2-B69F-23FD52A9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25ED-41C8-4526-90E8-F947E2B2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61DE-24ED-41BD-8634-5D263E24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5F3-DC85-4D33-AF98-50FD040F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38D-EC13-4AB1-9DB2-C6BCAFAC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C32D-00D3-4DD9-8BB3-3A4A33AE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9BB1-2673-49BF-A95A-7E4B5531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6DF8-6D1B-4F3A-8AC0-22139405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BAA6-48F2-43B5-83B2-735276A2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12B-4364-44E7-BA0F-B46B42F9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B881-4579-44FE-B761-C0B9A02337D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6894-69B0-4E24-A805-D56EF433990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urning the “Red” states --“Blue”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he strategy for chan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 look at the Indiana Case Study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S OF THIS CHANGE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ed Barack Obama president – with a 10,000,000 vote margin is the largest ever for a non-incumben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d the rules of the campaig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gistered and mobilized people who haven’t ever been involved in the process both young and old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67960" y="868320"/>
            <a:ext cx="7712280" cy="14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ote from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President-Elect Barack Obama</a:t>
            </a:r>
            <a:br>
              <a:rPr sz="3400"/>
            </a:b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hange will not come if we wait for some other person or some other time. We are the ones we've been waiting for.  We are the change that we seek.”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rack Obama won 9 states that George W. Bush won in 2004 including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895120" y="2361960"/>
            <a:ext cx="5635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ow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w Mexic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or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v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rgin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rth Caroli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ia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h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orid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o WHY did the Obama campaign change the way things where run? And what did these changes look like?   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ple – Only change would win the campaign for the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nges appeared in all aspects of the campaign: Overall strategy, Message and Communications, Field and Fundraising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RGANIZE, ORGANIZE, ORGANIZE 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arly decision to expand electoral playing fiel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ilt new campaign model that empowered volunte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ed heavily in new technolog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uge investments in field, organizers, offices and alternative adverti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ultivated largest small-donor base in political histo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amless integration of all campaign component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ery component campaign with an organizers focus and prospectiv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Did Obama Turn These States Blue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would not have won the election without focusing so heavily on voter registration. The nine states we flipped from Red to Blue are a perfect example of this.  In each of these states, the number of voters we registered accounted for our margin of victory.  Without a massive voter registration drive Obama would have received fewer than 240 Electoral College Vote and John McCain is President today.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-- Steve Hildebrand, Deputy Campaig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   Manager on key to landslide victory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ase study: Indian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647960" y="2971800"/>
            <a:ext cx="40129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MCj01895940000[1]"/>
          <p:cNvPicPr/>
          <p:nvPr/>
        </p:nvPicPr>
        <p:blipFill>
          <a:blip r:embed="rId1"/>
          <a:stretch/>
        </p:blipFill>
        <p:spPr>
          <a:xfrm>
            <a:off x="1219320" y="380880"/>
            <a:ext cx="678168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DID BARACK FLIP INDIANA?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utperformed John Kerry by more than 450,000 votes by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oosing to compete in a state Dems haven’t won in 40 yea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gistered over 150,000 new vot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pened field offices in every major city and many small cities too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mitted 200 field staff to the st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mitted resources to early voting minority and youth vot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mitted early money for media buys in Indiana and outspent McCain 2 to 1 on ai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rgeted upscale, suburban Republicans for persua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ximized minority turnout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IU’S EFFORT IN INDIAN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gistered nearly 18,000 new vo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ght a legal battle with Republican Party to protect early voting in Northwest, Indian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 a massive early vote operation that gave Obama a 22,000 vote edge over McC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ve 1,067 individual voters to early vo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urnout out over 90% of the registered voters in Gary, East Chicago and targeted precincts in Hammon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precedented commitment from our Local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20:57:54Z</dcterms:created>
  <dc:creator>HAP</dc:creator>
  <dc:description/>
  <dc:language>en-US</dc:language>
  <cp:lastModifiedBy>KMeador</cp:lastModifiedBy>
  <dcterms:modified xsi:type="dcterms:W3CDTF">2009-02-03T17:55:53Z</dcterms:modified>
  <cp:revision>6</cp:revision>
  <dc:subject/>
  <dc:title>Turning the “Red” states --“Blue”   </dc:title>
</cp:coreProperties>
</file>